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28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5.png" ContentType="image/png"/>
  <Override PartName="/ppt/media/image11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B09F-DA39-4D25-BC09-AF2346D4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037-7BAD-4789-BD8E-F218157E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C5A-F052-4F3B-9381-3A6EA6B2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C98-967D-47BD-8E74-99B2545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828-ADDF-4AAE-BE8D-70FC68CE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729-8793-4EAF-935C-73CC0227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3219-9DF5-46C4-BAC8-3E46723E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2645-0EB1-4AD5-BA8F-C66B4EF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1492-EA7D-4F20-BDCE-F0792EA1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F2B9-7539-45F5-BC5D-7A9E5D5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E6D8-952B-4CE1-8924-4F24E0FF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B6B8-76D5-4CFA-8BBE-31BC3F0E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57A-A9A2-4F38-824C-64E0985C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295-A729-445C-A777-17956DA2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E37B-7C41-441B-A85F-C7B6C87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A6FA-DC28-4D2C-BECB-A8E072B9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072-8461-49D2-AB92-F3A99E4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99D-63C1-4F3A-AD61-873766F6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BACE-7038-4EEE-A521-4A342E08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308-A036-475B-A4E7-F79ABB2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FB5-7103-4C0B-A887-39803C21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5B8-8A25-4A4D-B84C-8420C891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DF4-C81B-4C26-9AC6-9494261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5FC-4536-43A7-B30F-0996C09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F4B-B104-478E-A37A-6AACF78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C8B-E1D6-4BC7-8C78-ACAF612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A4E-9CE4-4D38-87A7-179D46A31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16A5-E3F9-424D-AFCE-8F95F0F5C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299700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нгендорф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де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Langendorff) ретроградне перфузије изолованог срца пац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кспериментални модели хипертензије и инфар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кондиционир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647800" y="5157720"/>
            <a:ext cx="394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роф. др Владимир Живко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3673440" y="28116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rb za gore desno obradjen"/>
          <p:cNvPicPr/>
          <p:nvPr/>
        </p:nvPicPr>
        <p:blipFill>
          <a:blip r:embed="rId2"/>
          <a:stretch/>
        </p:blipFill>
        <p:spPr>
          <a:xfrm>
            <a:off x="7596360" y="26028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fso"/>
          <p:cNvPicPr/>
          <p:nvPr/>
        </p:nvPicPr>
        <p:blipFill>
          <a:blip r:embed="rId3"/>
          <a:stretch/>
        </p:blipFill>
        <p:spPr>
          <a:xfrm>
            <a:off x="395280" y="404640"/>
            <a:ext cx="1071720" cy="1047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2832840" y="2060640"/>
            <a:ext cx="333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112500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d</a:t>
            </a:r>
            <a:r>
              <a:rPr b="1" lang="sr-Latn-C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p/dt max</a:t>
            </a: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максимална стопа развоја притиска у левој комор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d</a:t>
            </a:r>
            <a:r>
              <a:rPr b="1" lang="sr-Latn-C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p/dt min</a:t>
            </a: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 –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минимална стопа развоја притиска у левој комор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SLVP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-систолни притисак у левој комор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DLVP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-дијастолни притисак у левој комор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HR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-срчана фреквенц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Сакупља се 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CF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-коронарни проток</a:t>
            </a:r>
            <a:r>
              <a:rPr b="0" lang="sr-Latn-CS" sz="1500" spc="-1" strike="noStrike">
                <a:solidFill>
                  <a:srgbClr val="000000"/>
                </a:solidFill>
                <a:latin typeface="Arial Black"/>
                <a:ea typeface="SimSu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144960" y="3213000"/>
            <a:ext cx="5999040" cy="3645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95280" y="189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фтвер (преко сензора) омогућава мерењ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ледећих кардиодинамских парамет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интравентикуларних притисака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к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спериментални протокол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*поступци чувања и бриге о животињама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Експериментална истраживањ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се изводе на изолованом срцу пацова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star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lbino 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со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Мушког пола, старости </a:t>
            </a: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8-10 недеља (просеч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Просечна телесна маса </a:t>
            </a: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око 250 гр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Wistar-TgN_CAG-GFP_184Ys_1024"/>
          <p:cNvPicPr/>
          <p:nvPr/>
        </p:nvPicPr>
        <p:blipFill>
          <a:blip r:embed="rId1"/>
          <a:stretch/>
        </p:blipFill>
        <p:spPr>
          <a:xfrm>
            <a:off x="2843280" y="386064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к</a:t>
            </a:r>
            <a:r>
              <a:rPr b="0" lang="sr-CS" sz="3200" spc="-1" strike="noStrike">
                <a:solidFill>
                  <a:srgbClr val="000000"/>
                </a:solidFill>
                <a:latin typeface="Arial Black"/>
              </a:rPr>
              <a:t>спериментални протокол</a:t>
            </a:r>
            <a:br>
              <a:rPr sz="3200"/>
            </a:b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*поступци чувања и бриге о животињама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Животиње се чувају у стандардним лабораторијским услови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температура ваздуха око 23 °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релативна влажност ваздуха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12:12 чаcова циклус светлост:т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слободни приступ води и храни (ad libitu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Важно при експерименталном раду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EU Directive for the Protection of the Vertebrate Animals used for Experimental and other Scientific Purposes 86/609/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ЕЕС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 дозвола Етичког одбора за добробит експерименталних животиња Факултета Медицинских Наука Универзитета у Крагујевцу и надлежног Министар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к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спериментални протокол</a:t>
            </a:r>
            <a:br>
              <a:rPr sz="3200"/>
            </a:b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i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ПОСТУПАК ИЗОЛАЦИЈЕ СРЦА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708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Краткотрајна етарска наркоз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ртвовање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рвикалном дислокацијо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chedule 1 of the Animals/Scientific Procedures, Act 1986, U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ируршко отварање абдо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Лучно пресецање дијафраг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5. Ургентна торакотомија, бочно, дуж мамиларне лин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6. Пресецање перикарда на врху срц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7. Ресецирање крвних судова на бази ср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8. Изолација срца из грудног ко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*   током свих процедура, срце се прелива физиолошким раствором (+4 °C) како би се одржало у релативној хомеоста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к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спериментални протокол</a:t>
            </a:r>
            <a:br>
              <a:rPr sz="3200"/>
            </a:b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i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ПОСТУПАК ПРЕПАРАЦИЈЕ СРЦА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708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Након изолације срце се одмах поставља у леден физиолошки раствор ((-4) – (-10) </a:t>
            </a:r>
            <a:fld id="{24183583-8934-43EF-A5B1-13854EFC583A}" type="slidenum">
              <a:rPr b="0" lang="ru-RU" sz="18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°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*импровизују се тзв. „физиолошка клешта“ - метаболички процеси у миокарду се своде на миниму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Спроводи се тупа препарација базе срца, са отклањањем свих елемената, изузев асцедентне аорте, јер се кроз њу одвија ретроградна перфуз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У циљу што поузданијих резултата, односно одржања виталности препарата, потребно је да ова хируршка процедура траје свега 2-3 мину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к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спериментални протокол</a:t>
            </a:r>
            <a:br>
              <a:rPr sz="3200"/>
            </a:b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i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ПОСТУПАК ПРИПРЕМЕ СРЦА ЗА РАД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708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Срце се везује концем за канилу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angendorff апарата преко асцедентне аор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 пределу леве аурикуле се пресеца лева преткомора, чиме се приступа митралнoj валву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Прокидањем митралне валвуле се обезбеђује улазак и постављање претходно поменутог сензора у леву комору преко кога се прати функција срчаног мишић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После успостављања стабилног срчаног рада (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 и кардиодинамски параметри се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након неколико серија мерења не мењају значајно) створени су услови за испитивање функције изолованог срц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и модели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понтано-хипертензивни пацови (SHR) – након 4. недеље развијају изражени систолну и дијастолну хипертенз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отреба 9% раствора NaCl-a у води за пиће најмање 4 недељ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salt-induced hyperten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мбинација оба м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теноза реналне ар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и модели инфаркта миокар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дел глобалне исхемије – заустављањем протока на Лангендорф апара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дел лигатур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ле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 коронарне артерије (L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емијски модел – коришћењем Изопротерен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дел хиперхолестеролемије – *најмање поуздан мо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0" y="218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екондиционирањ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иокар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КОНДИЦИОНИРАЊЕ МИОКАР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57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кондиционирање миокар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излагање миокарда сублеталним стимулусима у циљу заштите од каснијег деловања стресора који би изазвао летално оштећ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 основне врсте прекондиционирања миокар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хемијс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екондицион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армаколо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екондицион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Black"/>
              </a:rPr>
              <a:t>Оскар Лангендорф</a:t>
            </a:r>
            <a:r>
              <a:rPr b="0" lang="sr-CS" sz="3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sr-CS" sz="3000" spc="-1" strike="noStrike">
                <a:solidFill>
                  <a:srgbClr val="000000"/>
                </a:solidFill>
                <a:latin typeface="Arial Black"/>
              </a:rPr>
              <a:t>1853-190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604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Чувени немачки лекар и физиол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Родоначелник мет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Доказао је да срце исхрањује крв коју допремају коронарне артер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До највећег броја открића долази 1895.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Исте године се откривају и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ay 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(икс зраци) и </a:t>
            </a: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електрокардиографија 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KG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FotoLangendorff"/>
          <p:cNvPicPr/>
          <p:nvPr/>
        </p:nvPicPr>
        <p:blipFill>
          <a:blip r:embed="rId1"/>
          <a:stretch/>
        </p:blipFill>
        <p:spPr>
          <a:xfrm>
            <a:off x="6227640" y="2421000"/>
            <a:ext cx="25210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5440" cy="4857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СКИ МЕХАНИЗ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ОМЕН РЕПЕРФУ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43000"/>
            <a:ext cx="8435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еперфу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поновно успостављање протока крви након периода исхемиј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Реперфузија узрокује парадоксално оштећење кардиомиоцита услед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повећане продукције реактивних врста кисеоника (ROS)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прекомерног накупљања Са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у кардиомиоцитима и митохондрија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. накупљања инфламаторних ћелиј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+2+3 = РЕПЕРФУЗИОНО ОШТЕЋ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а нормализација рН вредности и нагло успостављање аеробног метаболизма изазива накупљање јона Са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одукцију 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d247mjxbujv0d8.cloudfront.net/content/ajpheart/301/5/H1723/F3.large.jpg?width=800&amp;height=600&amp;carousel=1"/>
          <p:cNvPicPr/>
          <p:nvPr/>
        </p:nvPicPr>
        <p:blipFill>
          <a:blip r:embed="rId1"/>
          <a:stretch/>
        </p:blipFill>
        <p:spPr>
          <a:xfrm>
            <a:off x="657360" y="1014480"/>
            <a:ext cx="7829280" cy="5629320"/>
          </a:xfrm>
          <a:prstGeom prst="rect">
            <a:avLst/>
          </a:prstGeom>
          <a:ln w="0">
            <a:noFill/>
          </a:ln>
        </p:spPr>
      </p:pic>
      <p:sp>
        <p:nvSpPr>
          <p:cNvPr id="153" name="Title 1"/>
          <p:cNvSpPr/>
          <p:nvPr/>
        </p:nvSpPr>
        <p:spPr>
          <a:xfrm>
            <a:off x="214200" y="274680"/>
            <a:ext cx="8715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хематски приказ И/Р оште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ХЕМИЈСКО ПРЕКОНДИЦИОНИРАЊЕ МИОКАР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хемијско прекондиционирање је први описа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r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1986. године, изводећи експерименте на пс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о је да једнократно или вишеструко излагање миокарда исхемији, која узрокује реверзибилно оштећење кардиомиоцита, изазива смањење величине инфаркта и последице реперфузионе повреде које настају услед накнадног дуготрајног периода исхем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ективни ефекти исхемијског прекондиционирања миокарда се заснивај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у продукције реактивних врста кисеоника (ROS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у потрошње кисеони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у величине инфак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у апоптоз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у акумулације неурофил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у функције ендотела,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у прекомерног накупљања С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у кардиомиоци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le 1"/>
          <p:cNvSpPr/>
          <p:nvPr/>
        </p:nvSpPr>
        <p:spPr>
          <a:xfrm>
            <a:off x="250920" y="549360"/>
            <a:ext cx="87152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ХЕМИЈСКО ПРЕКОНДИЦИОНИРАЊЕ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13372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а различита временска оквира у оквиру исхемијског прекондиционирања миокар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на фаза или “класично прекодициони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, која траје од неколико секунди до три сата, и подразумева активацију резличитих мембранских протеи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сна фаза или фаза “секундарног прозора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 wind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која траје од 12 до 72 сата и подразумева експресију гена који кодирају кардиопротективне стрес проте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tle 1"/>
          <p:cNvSpPr/>
          <p:nvPr/>
        </p:nvSpPr>
        <p:spPr>
          <a:xfrm>
            <a:off x="250920" y="692280"/>
            <a:ext cx="87152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СХЕМИЈСКО ПРЕКОНДИЦИОНИРАЊЕ МИОКАРДА У КАРДИОХИРУРГ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002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Yell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је 1993. године описао ефекте исхемијског прекондиционирања на људском срц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Током операције коронарних артерија применио је краткотрајне периоде исхемије и реперфузије, и доказао да се тиме повећавају вредности АТР-а у срц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Други аутори су показали да исхемијско прекондиционирање миокарда смањује вероватноћу настанка леталних постоперативних вентрикуларних тахикардија и атријалне фибрилац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Описано је да епизоде нестабилне ангине у оквиру 48 сати пре операције коронарних артерија имају ефекат исхемијског прекондиционирања и позитивно делују на хемодинамске функције у постоперативном период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0" y="69228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ФАРМАКОЛОШКО ПРЕКОНДИЦИОНИРАЊЕ МИОКАР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7300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ве већи број истраживања се бави испитивањем фармаколошког прекондиционирања и протективног ефекта ове врсте прекондиционирања од реперфузионог оштећења миокар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зими који припадају фамилији митогеном активираних протеин киназа (MAPK) имају кључну улогу у настајању реперфузионе повред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-Jun N-терминалне киназ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-Jun N-terminal kin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ЈNK1 иJNK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38 киназе,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иназе регулисне екстрацелулерним сигналим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racellular signal-regulated kin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RK1 и ERK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tle 1"/>
          <p:cNvSpPr/>
          <p:nvPr/>
        </p:nvSpPr>
        <p:spPr>
          <a:xfrm>
            <a:off x="0" y="27468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АРМАКОЛОШКО ПРЕКОНДИЦИОНИРАЊЕ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002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армаколошки агенси који делују на ове групе ензима и сигналне путеве у којима они учествују се најчешће користе као агенси у фармаколошком прекондиционира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но је 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иклоспорин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спољава протективно дејство током реперфузије. Код пацова који су прекодиционирани циклоспорином А пре индукције исхемије, смањена је експресија MAPK, што је вероватно кључни протективни механизам ове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le 1"/>
          <p:cNvSpPr/>
          <p:nvPr/>
        </p:nvSpPr>
        <p:spPr>
          <a:xfrm>
            <a:off x="0" y="54936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АРМАКОЛОШКО ПРЕКОНДИЦИОНИРАЊЕ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9000"/>
            <a:ext cx="8229600" cy="42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денаф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инхибитор фосфодиестеразе 5 испољава протективно дејство током реперфуз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заштите силденафила од реперфузионог оштећења се заснива на индукцији синтезе иРНК за идуцибилну (у већој мери) и ендотелну изоформу ензима азот-моноксид синтазе (N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тај начин се повећава продукција азот-моноксида, који штити миокард током реперфуз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Black"/>
              </a:rPr>
              <a:t>Најважнија Лангендорф-ова открића у кардиоваскуларној физиологији</a:t>
            </a:r>
            <a:br>
              <a:rPr sz="2400"/>
            </a:b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(Тaegtmeyer, 199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2590920"/>
          <a:ext cx="8229600" cy="2747880"/>
        </p:xfrm>
        <a:graphic>
          <a:graphicData uri="http://schemas.openxmlformats.org/drawingml/2006/table">
            <a:tbl>
              <a:tblPr/>
              <a:tblGrid>
                <a:gridCol w="2967120"/>
                <a:gridCol w="52624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ОД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КРИЋ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агусна контрола срчане функ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ндогени аутоматизам ср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стекстрасистолна потенциј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опходност коронарног протока за контракцију срца сис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le 1"/>
          <p:cNvSpPr/>
          <p:nvPr/>
        </p:nvSpPr>
        <p:spPr>
          <a:xfrm>
            <a:off x="0" y="62064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КОЛОШКО ПРЕКОНДИЦИОНИРАЊЕ МИОК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570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протективно дејств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дроксихлорокв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када се користи као прекондициони агенс, и 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vitr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 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v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туд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деловања се заснива на повећаној фосфорилацији киназа регулисних екстрацелулерним сигналима (ERK1 и 2) у којој посердује хидроксихлорокв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дроксихлороквин је антималарик који се користи и у аутоимунским болестима, при чему механизам деловања није сасвим разјашњ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схемијско посткондицион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ВОРЕНА ПИ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хемијско/реперфузионо оштећење миокар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ком операција на отвореном срц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ханизми оштећења: апоптоза, ROS, различити сигнални путев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ли нешто дру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фикасност  примене кардиоплегичних раст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чини превазилажења пробле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Феномен исхемијског посткондиционир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ХЕМИЈСКО ПОСТКОНДИЦИОНИР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3 - Zhao et al, експеримент на пс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цес излагања срца вишеструким и кратким периодима исхемије праћеним истоветним периодима реперфузије који се спроводе непосредно након  дуготрајног исхмеијског инсул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стојање овог феномена у срцу током припрема за PTC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инергистички ефекат са кардиоплегичним растворим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 - Luo et al, хумана студија, пацијенти на  КПБ, замена  залиста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јчешће током замене залиста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токол извођења посткондиционир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минута пре потпуног отварања асцедентне аорте: период реперфузије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клампова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30 sec) праћен периодом исхемије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лампова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30 sec) који се понављају током три циклу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лекулски механиза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Инхибиција инфламац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Инхибиција синтезе R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Активација PI3K/Akt сигналног пута –инхибиција апопто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554544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еке од наших публикациј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icture 2"/>
          <p:cNvSpPr/>
          <p:nvPr/>
        </p:nvSpPr>
        <p:spPr>
          <a:xfrm>
            <a:off x="2268360" y="1916280"/>
            <a:ext cx="43596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272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93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987280" y="1196640"/>
            <a:ext cx="6156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Остала епохална открића:</a:t>
            </a:r>
            <a:r>
              <a:rPr b="0" lang="sr-C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Крв која напушта ''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есно''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срце је тамна и сиромашна кисеоник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Коронарни притисак од 90-110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mHg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 резултира протоком од 4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l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Коронарном перфузијом се може остварити стабилна контрактилна функција леве комо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Вагусна стимулација успорава срц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Мускарин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 успорава, док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атропин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 убрзава срчани р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3048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722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7058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8407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200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rcRect l="0" t="0" r="0" b="55190"/>
          <a:stretch/>
        </p:blipFill>
        <p:spPr>
          <a:xfrm>
            <a:off x="755640" y="1413000"/>
            <a:ext cx="7877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042920" y="19080"/>
            <a:ext cx="7058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987280" y="1125000"/>
            <a:ext cx="6156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 Black"/>
              </a:rPr>
              <a:t>Остала епохална открића:</a:t>
            </a:r>
            <a:r>
              <a:rPr b="0" lang="sr-C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Калијум хлорид (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Cl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) доводи до срчаног засто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Нижа температура успорава срц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Електростимулација може довести до фибрил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Прекид коронарне циркулације доводи до престанка срчаних контрак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Поновно успостављање коронарне циркулације доводи до поновне контрактилне а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3048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0" t="0" r="0" b="8658"/>
          <a:stretch/>
        </p:blipFill>
        <p:spPr>
          <a:xfrm>
            <a:off x="684360" y="0"/>
            <a:ext cx="79531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064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90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985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rcRect l="25732" t="19316" r="22799" b="5876"/>
          <a:stretch/>
        </p:blipFill>
        <p:spPr>
          <a:xfrm>
            <a:off x="539640" y="0"/>
            <a:ext cx="8082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rcRect l="6361" t="27190" r="27226" b="11781"/>
          <a:stretch/>
        </p:blipFill>
        <p:spPr>
          <a:xfrm>
            <a:off x="250920" y="1341360"/>
            <a:ext cx="8642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rcRect l="26285" t="25221" r="22799" b="6250"/>
          <a:stretch/>
        </p:blipFill>
        <p:spPr>
          <a:xfrm>
            <a:off x="755640" y="476280"/>
            <a:ext cx="770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13555" t="25221" r="28335" b="6250"/>
          <a:stretch/>
        </p:blipFill>
        <p:spPr>
          <a:xfrm>
            <a:off x="611280" y="907920"/>
            <a:ext cx="8253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фекти инхибитора различитих изоформи фосфодиестеразе на коронарну ауторегулацију. Проф. др. Владимир Љ. Јаковљевић; Докторска дисертација,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дицинска Физиологија. Проф. др. Вујадим М. Мујовић,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Langendorff apparatu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F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-01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SER MANUAL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Web stranica: www. Experimetria. 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sr-CS" sz="3000" spc="-1" strike="noStrike">
                <a:solidFill>
                  <a:srgbClr val="000000"/>
                </a:solidFill>
                <a:latin typeface="Arial Black"/>
              </a:rPr>
              <a:t>паратура по Лангендорф-у:</a:t>
            </a:r>
            <a:br>
              <a:rPr sz="3000"/>
            </a:br>
            <a:r>
              <a:rPr b="1" lang="sr-CS" sz="2400" spc="-1" strike="noStrike">
                <a:solidFill>
                  <a:srgbClr val="000000"/>
                </a:solidFill>
                <a:latin typeface="Arial Black"/>
              </a:rPr>
              <a:t>интегративни 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 Black"/>
              </a:rPr>
              <a:t>Систем две вертикалне стаклене цеви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 (између њих тече загрејана вода, а у унутрашњој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rebs Hensenlеit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-ов раствор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 Black"/>
              </a:rPr>
              <a:t>Резервоар 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(у коме се налази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rebs Hensenlеit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-ов раствор у запремини од 4 лита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 Black"/>
              </a:rPr>
              <a:t>Боца са смешом гасова 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=95%:5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 Black"/>
              </a:rPr>
              <a:t>Канила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( на коју се везује асцедентни део аорте срц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 Black"/>
              </a:rPr>
              <a:t>Водено 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купатило (загрева воду која се налази између вертикалних цеви на 37º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 Black"/>
              </a:rPr>
              <a:t>Инфузиона пумпа </a:t>
            </a: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(контролише проток раств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Сензори (за регистровање кардиодинамских парамета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 Black"/>
              </a:rPr>
              <a:t>Рачунар са софтверском јединиц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Langendorf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апара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F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-01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основне компоненте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lightboxImage" descr="29140"/>
          <p:cNvPicPr/>
          <p:nvPr/>
        </p:nvPicPr>
        <p:blipFill>
          <a:blip r:embed="rId1"/>
          <a:stretch/>
        </p:blipFill>
        <p:spPr>
          <a:xfrm>
            <a:off x="2666880" y="1143000"/>
            <a:ext cx="38862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Line 6"/>
          <p:cNvSpPr/>
          <p:nvPr/>
        </p:nvSpPr>
        <p:spPr>
          <a:xfrm>
            <a:off x="205740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0800" y="220500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еви за 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7012800" y="3886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 flipH="1">
            <a:off x="44956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5640" y="357264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фузиона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умп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205740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4952520" y="28195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022880" y="26668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нзор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1061640" y="4581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нзор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2057400" y="403848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 Black"/>
              </a:rPr>
              <a:t>Метод ретроградне перфу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Постоје два основна метода у испитивањ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Перфузија изолованог срца при константном притиску у коронарном васкуларном кориту (променљив је прото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Перфузија изолованог срца при константном протоку у коронарном васкуларном кориту (променљив је притиса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Ми у нашим истраживањима користимо модел са константним притиском, где се одређује количина протока за задату вредност прити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Однос притиска и протока у овом моделу су приказани једначино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st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.) ≈  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otok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1403280" y="50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2771640" y="5084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МПЛЕКСНИ Krebs Hensenlеit-ов раствор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-састав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8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C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 - 118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mo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C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 - 4,7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mo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gSO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 - 1,66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mo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HCO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 - 24,88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mo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H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 - 1,18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mo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глукоза - 5,55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mo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Cl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 - 2,52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mol</a:t>
            </a: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ХХХ</cp:lastModifiedBy>
  <dcterms:modified xsi:type="dcterms:W3CDTF">2020-05-26T12:41:38Z</dcterms:modified>
  <cp:revision>247</cp:revision>
  <dc:subject/>
  <dc:title>Slide 1</dc:title>
</cp:coreProperties>
</file>